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EA6-5EF3-42CC-A333-DD30E515F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F10-7DA7-4235-9C7F-811F63454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DCF8-7E6B-4A86-B088-97E5BA051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CC53-2B89-4442-9BCF-CF659D3EF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C93-B0E0-4BEC-8F27-CD2FE521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BA3-9A74-4921-9F9E-8AEF8965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922-2DCD-478D-900A-4B934ACD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000-5638-4632-8B9D-64C5B24F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B63B-BF73-4D2A-9734-8C2216F2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20EA-368B-467F-B1E9-51F8A91D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483-C524-4999-9A2F-F12D459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CADA-8CC1-4B74-BBDB-233BA8DF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96F8-4F3E-4CA6-B894-50CD9E5D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0D21-BFF5-4592-87BB-C8F6E8F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8427-F978-4DF7-8ABB-8D699E5B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73D-305E-4907-8E7B-D6C91D8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5606-F67C-49B4-8811-0461CC9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E5D-1642-4DA1-8F59-69D9854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9DA-6FD8-4D52-9FEF-1806307A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A303-2569-4081-9F1B-DC7D9B91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4330-4CDA-4E67-8B23-29C20727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4886F-1F71-4C6B-B0FA-EF224C7D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AC25E-E6D3-48B2-8255-77456195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9C176-9E6A-4BE4-BDE1-9925D2B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B0597-A592-43E3-B4BF-62BC630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4349F-D069-4567-A02C-F51C9744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61E-4DE5-482C-927D-DB325CD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79457-334E-434C-9A97-49D0CB4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52053-653C-4F33-AFB5-481C7E84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7D451-7367-41E1-B984-7D4643C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197B3-6082-4F0F-91A4-6D6816F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AAA59-6214-4485-A85C-604AC95B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C0895-B4B3-4C01-9010-E01FFD62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773C5-4229-4626-93AB-A923AD65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50998-97AD-403B-A8A7-DFBB891B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A08C6-0910-4B51-99CF-6F7A9F2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123E6-80D4-40C9-9273-BE9996F9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DF5-BE72-423F-A106-EF5FCB4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78261-E904-4584-881A-FAA05FD8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5F6F6-C07F-4A55-9FB8-8479E7BA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6E618-20D5-4886-956A-64BF61F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DA555-1040-4F13-B764-E5FC6E2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8A66E-B4CB-45DF-B257-086CE4B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8F917D-BE8B-4683-9132-36547BCD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E8698-A87C-41FB-B658-4A7E52E4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09B5A-0C9C-4962-BAD3-171F594B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B851E-C457-451F-8787-0D37ED56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08A64-D694-4D17-BD93-4C3FBAA9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EF8-0536-4EA4-8D83-CC328E52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1E6C3-505F-49A0-9B46-75C43BD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0E56-F3BD-4A62-93F8-7B5DFD1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F9DDC-E54D-44F5-B284-55FB1E1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0BE37-3958-4F07-8EFE-64F451F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E8396-A8E4-4CB1-9FF1-3D521141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1E580-AF36-4C94-AA11-885F2FEA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BEA66-D989-4020-ABE5-2063193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8AD67-5386-4217-A8E2-A8AEF18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38713-DBCA-4E0D-AA56-43C9FD48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DB6B7-2720-42D6-B781-3CFCDF48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038-607B-42BE-8F29-8249351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1DC5D-1062-49C0-9C5F-A01F07F3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C5583-2A9A-4BCB-9A6E-5F1C580C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8C5A-A1F5-4F19-B0BA-F1DC53C5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968A-06C9-45B9-8EF6-585E9A45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49EBA-8092-4996-8ADE-14DBDC67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67BE-99BE-4D0A-80C4-2977275C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A387-BBCD-4B59-89C9-915F4C1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6388-CF37-4CCA-A182-FB437AB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5C53A-6452-4554-8809-2254FDEE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A7BF-1B90-4F19-BCF1-BECCBBB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245-2656-4A8D-9132-ED19465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6E4E1-665B-44BF-B6E5-2802566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CDCBE-604C-45BB-B849-EE60F30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6972-7A55-48AA-B9C5-91DC006C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D6BD7-AB18-4EB7-9629-54F6BC82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C352B-0AF8-4EAC-9689-52814B7E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8E26B-450F-45BF-B9E6-03C08FF9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D374F-15F6-45B8-A1F2-5F237F4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D9AA5-9CC0-4891-8A94-D01D375E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CF381-A526-483E-B09C-DA0B5890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281EC-F276-4BF9-81E8-1CF032B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503-DE2F-4E95-B2BB-D6CB884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D0C239-B6A6-4677-87D4-117247B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861E8-7CA3-4959-A56D-BC7F5CA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1F229-645C-4B21-BAF8-ED1F0A3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F653B-0D75-4A76-8DD3-715513E7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F80B9-A242-4E67-93F9-E62D259B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B214-BC52-40E5-AFE3-F4D80146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926E-19E2-49E3-A786-E31C28DF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6001B-E140-4502-A345-4536E594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A99B-169C-4530-82FE-F1D4F4D4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3078-A550-4A9A-A51B-86B3F6D7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9FC-AECE-4472-82B9-69954442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FF03-BA3F-43B7-90D2-A0F9D88E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C5E5-6E76-486D-83B8-8C300F1A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0474-E9E7-4E93-B189-CFED3DE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C2AB-6E32-4AC3-B5F3-6E75003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9E2CD-44EB-4B62-80F4-454F69B4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593E-C58E-4CB0-9436-AD847924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DF45-0753-4876-B71B-812DB19A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0332-701D-4578-84D2-D48796D5009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65F3-27D6-4F91-990C-C0DE39DDD0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447-F358-49E5-9DF8-0BCAD2631BC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48FB-CAC0-4A1C-98F9-CC6BB66A908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5A6-EEAD-4030-A8EF-84271E14D75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5CC-F457-431E-9191-2A0A51AF888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C747-1378-43A6-A2E2-750A866A8EF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3BC8-17E2-42C0-BFFF-DA7AB9C421E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D641-10B1-435A-A2A5-9712AD296D8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AA3-7CA1-4418-A876-A8462B21A1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347-D235-47FE-ACDB-BC21DD872B0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C0F6-5AA9-49DA-ABE7-3953CD3D292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324-3AB3-4621-88CF-E0649F33B5C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78F-DD8E-449C-AC01-89E5B0ADFDA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C16-B6E8-42D2-84A7-9F7F64E7239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D7BF-59FD-4D33-99ED-044F2C9C3FD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106056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Top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cs</a:t>
            </a: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 </a:t>
            </a:r>
            <a:r>
              <a:rPr b="0" lang="en-US" sz="4000" spc="-1" strike="noStrike">
                <a:solidFill>
                  <a:srgbClr val="dd8047"/>
                </a:solidFill>
                <a:latin typeface="Tw Cen MT"/>
              </a:rPr>
              <a:t>Enterprise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 Architecture -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19FE-FB3B-4B88-A589-C7F024D5D34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304920" y="0"/>
            <a:ext cx="8458200" cy="83379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Windows DNA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ver the last several years, Microsoft has been ad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re Internet-aware features into its family of op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, building a complete Web application using class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DNA (Distributed iNternet Architecture) is al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ery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me of this complexity is due to the simple fact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DNA requires the use of numerous technolog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languages (ASP, HTML, XML, JavaScript, VBScrip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(+), as well as a data access API such as AD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problem is that many of these items are complet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nrelated from a syntactic point of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rther, more important, each language and/or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s its own type system. An "int" in JavaScript is not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ame  as an "int“ in C, which is different from an "Integer"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5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F172-5BE9-4B9B-BA04-FC2A439BA5E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2"/>
          <p:cNvSpPr/>
          <p:nvPr/>
        </p:nvSpPr>
        <p:spPr>
          <a:xfrm>
            <a:off x="609480" y="640080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C7FB-9B85-4FA4-9E1C-55FE155D1D5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304920" y="173160"/>
            <a:ext cx="8458200" cy="8155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.NE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Here is a quick rundown of some core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 provided courtesy of .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Full interoperability with existing Win32 code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isting C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inaries can commingle with newer .NET binaries and 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Complete and total language integration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 .NET  suppor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cross- languag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heritance, cross-language exce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ndling, and crosslanguage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A common runtime engine shared by all .NET –aware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  languag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One aspect of this engine is a welldefined se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types that each .NET-aware language "understands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A base class library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at provides shelter from th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complexities of raw API calls, and offers a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istent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del used by all .NET- aware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ate Placeholder 5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3E7-457B-4EC8-AEA4-F7963F25048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6D6-79B7-48A8-A620-2D411AA7DE7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304920" y="173160"/>
            <a:ext cx="8458200" cy="24256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A truly simplified deployment model.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Under .NET, there i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no need to register a binary unit into t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ystem registr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urthermore, the .NET runtime allows multiple version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same *.dll to exist in a single mach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17CC-D0B9-4C31-BE4E-BF96C6090B6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4942-39C0-4701-A85B-DAA4FD477B0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304920" y="173160"/>
            <a:ext cx="8458200" cy="6158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Introducing the Building Blocks of the .NET Platform (the CLR, CTS, and C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hree key entities : the CLR, CTS, and  C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a programmer’s point of view, .NET can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nderstood as a new runtime environment and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rehensive base class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runtime layer is properly referred to as 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omm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language runtime, or CL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primary role of t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R is to locate, load, and man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R also takes care of a number of low- level detai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ch as memory management and performing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hecks.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D88-72CF-42FE-9BEB-F59881B2F06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8BD-ECDC-4BCD-81E0-B054ED7E820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304920" y="173160"/>
            <a:ext cx="8458200" cy="6356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TS 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ommon Type System)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ecification fu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scribes  all possible data types and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s supported by the run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also specifies how these entities can interac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ach other, and  how they are represented in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tadata for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S (Common Language Specification)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fines a 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rules that enables interoperability on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S is a subset of CTS and therefore the langua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pporting the CLS can use each other’s class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make use of a data type or programming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is outside of the bounds of the CLS, we can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uarantee that every .NET programming language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act  with .NET code libr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670B-E2A3-448C-986D-FBDB1456A2D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051-1990-49FF-AF3C-BEB9651A425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04920" y="173160"/>
            <a:ext cx="8458200" cy="6799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Base Class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the CLR and CTS/CLS specifications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platform provides a base class library that is avail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to all .NET programming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so provides support for a number of services requir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st real-world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ate Placeholder 7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A79-A415-404F-813F-28C482FB64C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924680" cy="2759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"/>
          <p:cNvPicPr/>
          <p:nvPr/>
        </p:nvPicPr>
        <p:blipFill>
          <a:blip r:embed="rId2"/>
          <a:stretch/>
        </p:blipFill>
        <p:spPr>
          <a:xfrm>
            <a:off x="1523880" y="5619600"/>
            <a:ext cx="6019920" cy="32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6E6-7536-46BE-8229-E0ABCBAD985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4920" y="173160"/>
            <a:ext cx="8458200" cy="80175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What C# Brings to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# language offers the following features (man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hich are shared by other .NET-aware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languag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No pointers require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! C# programs typically have no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 direct pointer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matic memory management through garb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llection. Thus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# does not support a delete key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mal syntactic constructs for enumerations, structur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class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++-like ability to overload operators for a cust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ype, without the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s of C# 2005, the ability to build generic types and gener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mbers using a syntax very similar to C++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ll support for interface-based programm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A94-06E3-43BC-B363-7A665E37820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4"/>
          <p:cNvSpPr/>
          <p:nvPr/>
        </p:nvSpPr>
        <p:spPr>
          <a:xfrm>
            <a:off x="304920" y="173160"/>
            <a:ext cx="8458200" cy="4939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ll support for aspect-oriented programming (AO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chniques via attribu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ost important point about the C# is that it can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duce code that can execute within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untime(managed c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inary unit that contains the managed code is  ter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ssembl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de that cannot be directly hosted by the .NET  runtim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rm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unmanaged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A8D-41FA-4C8F-A362-BEBFF223A37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C26F-D148-4198-81BB-72DC0E55794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Callout 8"/>
          <p:cNvSpPr/>
          <p:nvPr/>
        </p:nvSpPr>
        <p:spPr>
          <a:xfrm>
            <a:off x="1828800" y="3962520"/>
            <a:ext cx="6705720" cy="2286000"/>
          </a:xfrm>
          <a:prstGeom prst="wedgeEllipseCallout">
            <a:avLst>
              <a:gd name="adj1" fmla="val 26287"/>
              <a:gd name="adj2" fmla="val -19993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spect-oriented programming (AOP) is a programming paradigm that increases modularity. This entails breaking down a program into distinct parts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2"/>
          <p:cNvSpPr/>
          <p:nvPr/>
        </p:nvSpPr>
        <p:spPr>
          <a:xfrm>
            <a:off x="609480" y="6340320"/>
            <a:ext cx="5421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0" y="63244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78F-6591-4C8F-B8EC-A3A025EA8FC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CF01-5CC2-4E86-9CB6-2F97ED58199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304920" y="130320"/>
            <a:ext cx="8458200" cy="6509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An Overview of .NET Assembl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which .NET language you choose to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th, .NET binaries take the same file extension (*.dll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*.ex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binaries do not contain platform-specific instructio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ut rather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intermediate language (IL) and type metadata.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315200" cy="2938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"/>
          <p:cNvPicPr/>
          <p:nvPr/>
        </p:nvPicPr>
        <p:blipFill>
          <a:blip r:embed="rId2"/>
          <a:stretch/>
        </p:blipFill>
        <p:spPr>
          <a:xfrm>
            <a:off x="2057400" y="5638680"/>
            <a:ext cx="4851360" cy="36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56F-89C2-4B37-B4BC-6CEE2B29A9B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2BE-CE4F-4A5E-A325-0A7532BE1A1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457200" y="173160"/>
            <a:ext cx="8458200" cy="70434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a *.dll or *.exe has been created using a .NET-a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iler, the resulting module is bundled into an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assembly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d0d0d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assembly contains CIL code, which is concept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milar to Java byt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CIL instructions, assemblies also con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etadata that describ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haracteristics of every “typ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iving within the  bi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685800" y="304920"/>
            <a:ext cx="1676520" cy="1752480"/>
          </a:xfrm>
          <a:prstGeom prst="rect">
            <a:avLst/>
          </a:prstGeom>
          <a:gradFill rotWithShape="0">
            <a:gsLst>
              <a:gs pos="0">
                <a:srgbClr val="775f55"/>
              </a:gs>
              <a:gs pos="100000">
                <a:srgbClr val="372c2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73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09480" y="22860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++, C#, Visual Basic or any .N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971800" y="227160"/>
            <a:ext cx="3545640" cy="2791440"/>
            <a:chOff x="2971800" y="227160"/>
            <a:chExt cx="3545640" cy="2791440"/>
          </a:xfrm>
        </p:grpSpPr>
        <p:sp>
          <p:nvSpPr>
            <p:cNvPr id="439" name="Text Box 5"/>
            <p:cNvSpPr/>
            <p:nvPr/>
          </p:nvSpPr>
          <p:spPr>
            <a:xfrm>
              <a:off x="3693960" y="255888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sc.exe or Vbc.ex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3812760" y="227160"/>
              <a:ext cx="1887480" cy="1838160"/>
              <a:chOff x="3812760" y="227160"/>
              <a:chExt cx="1887480" cy="1838160"/>
            </a:xfrm>
          </p:grpSpPr>
          <p:sp>
            <p:nvSpPr>
              <p:cNvPr id="441" name="Gear"/>
              <p:cNvSpPr/>
              <p:nvPr/>
            </p:nvSpPr>
            <p:spPr>
              <a:xfrm>
                <a:off x="4859280" y="227160"/>
                <a:ext cx="840960" cy="8427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8"/>
              <p:cNvSpPr/>
              <p:nvPr/>
            </p:nvSpPr>
            <p:spPr>
              <a:xfrm>
                <a:off x="3812760" y="574560"/>
                <a:ext cx="1005840" cy="10076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9"/>
              <p:cNvSpPr/>
              <p:nvPr/>
            </p:nvSpPr>
            <p:spPr>
              <a:xfrm>
                <a:off x="4465080" y="946080"/>
                <a:ext cx="1117800" cy="1119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0"/>
            <p:cNvSpPr/>
            <p:nvPr/>
          </p:nvSpPr>
          <p:spPr>
            <a:xfrm>
              <a:off x="4448520" y="207864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971800" y="1667160"/>
              <a:ext cx="981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2"/>
          <p:cNvGrpSpPr/>
          <p:nvPr/>
        </p:nvGrpSpPr>
        <p:grpSpPr>
          <a:xfrm>
            <a:off x="5791320" y="304920"/>
            <a:ext cx="3124080" cy="2820600"/>
            <a:chOff x="5791320" y="304920"/>
            <a:chExt cx="3124080" cy="2820600"/>
          </a:xfrm>
        </p:grpSpPr>
        <p:sp>
          <p:nvSpPr>
            <p:cNvPr id="447" name="Rectangle 13"/>
            <p:cNvSpPr/>
            <p:nvPr/>
          </p:nvSpPr>
          <p:spPr>
            <a:xfrm>
              <a:off x="6934320" y="304920"/>
              <a:ext cx="1905120" cy="2361960"/>
            </a:xfrm>
            <a:prstGeom prst="rect">
              <a:avLst/>
            </a:prstGeom>
            <a:gradFill rotWithShape="0">
              <a:gsLst>
                <a:gs pos="0">
                  <a:srgbClr val="775f55"/>
                </a:gs>
                <a:gs pos="100000">
                  <a:srgbClr val="372c27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473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6934320" y="27572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LL or 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5791320" y="1142640"/>
              <a:ext cx="1066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304920" y="781200"/>
            <a:ext cx="8458200" cy="45126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Understanding the Previous State of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fore examining the specifications of the .NET univers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t's helpful to consider some of the issues that motivate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enesis of this new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 we will turn our attention to the numerous benef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vided by C# and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304920" y="76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 Philosophy of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C3F9-3007-4CE8-B8B4-CAB8D98482D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557-2E1B-492D-85EA-27271B40EAD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2E16-BEAC-47F1-BB94-78AC82735C1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3CD-53DF-4770-8E80-A75518BE8EC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304920" y="173160"/>
            <a:ext cx="8458200" cy="3157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CIL and type metadata, assembl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mselves are also described using metadata, which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rmed a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manifest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manifest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contains information about the curre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er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the assembly, culture information and a list of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xternally referenced assemblies that are required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per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14AC-B8E1-4778-921E-E8AB58184D5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9B3F-51A3-4EED-B498-EB318DBCB2B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304920" y="173160"/>
            <a:ext cx="8458200" cy="65242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Single-File and Multifile Assemb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many cases, there is a simple one-to-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rrespondence between a .NET assembly and the bin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ile (*.dll or *.ex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are building a .NET *.dll,  then the binary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 are one and the s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are building an executable desktop applicatio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*.exe can simply be referred to as the assembly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, if an assembly is composed of a single  *.dll or *.ex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dule, you have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ingle-file assem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ingle-file assemblies contain all the necessar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tadata, and associated manifest in an autonomou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ngle, well-defined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4"/>
          <p:cNvSpPr/>
          <p:nvPr/>
        </p:nvSpPr>
        <p:spPr>
          <a:xfrm>
            <a:off x="228600" y="0"/>
            <a:ext cx="8763120" cy="9434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ultifile assembli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on the other hand, are composed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umerous .NET binaries, each of which is termed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building a multifile assembly, one of these modu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ust contain the assembly manif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y would we choose to create a multifile assemb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you partition an assembly into discrete modules,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d up with a more flexible deployment op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a user is referencing a remote assembly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s to be downloaded, the runtime will only downloa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quired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we are free to construct our  assembly in suc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ay that less frequently required types  are kept in a sepa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and-alone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all types were placed in a single-file assembly, the e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ser may end up downloading a large chunk of data t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ot really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729C-B687-4A39-813A-D5483AD1674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84F6-F43C-4F31-ABCA-3AFE9EB69AA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304920" y="173160"/>
            <a:ext cx="8458200" cy="2684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Common Intermediate Languag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 is a language that sits above any particular platform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pecific instruction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which .NET-aware language we  choos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associated compiler emits CIL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5"/>
          <p:cNvSpPr/>
          <p:nvPr/>
        </p:nvSpPr>
        <p:spPr>
          <a:xfrm>
            <a:off x="228600" y="76320"/>
            <a:ext cx="8458200" cy="6616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Calc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amespace Calculator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This class contains the app's entry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class Calc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tatic 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lc c = new Calc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t ans = c.Add(10, 8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.WriteLine("10 + 84 is {0}.", a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Wait for user to press the Enter key before shutting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The C# calcul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class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 return x + y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42920"/>
            <a:ext cx="8686800" cy="6951240"/>
          </a:xfrm>
          <a:prstGeom prst="rect">
            <a:avLst/>
          </a:prstGeom>
          <a:solidFill>
            <a:srgbClr val="ebddc3"/>
          </a:solidFill>
          <a:ln w="0">
            <a:noFill/>
          </a:ln>
          <a:effectLst>
            <a:outerShdw dist="17819" dir="2700000" blurRad="0" rotWithShape="0">
              <a:srgbClr val="8d85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ce the C# compiler (csc.exe) compiles this source cod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e end up with a   single-file *.exe assembly that contain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anifest, CIL instructions, and metadata describing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spect of the Calc and CalcApp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open this assembly using ildasm.exe, we find that the Add() method is represented using CIL such a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04404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704404"/>
                </a:solidFill>
                <a:latin typeface="Arial"/>
              </a:rPr>
              <a:t>method public hidebysig instance int32 Add(int32 x, int32 y) cil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// Code size 8 (0x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.maxsta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.locals init ([0] int32 CS$1$0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0: ldarg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1: ldarg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2: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3: stloc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4: br.s IL_0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6: ldloc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7: 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} // end of method Calc::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5"/>
          <p:cNvSpPr/>
          <p:nvPr/>
        </p:nvSpPr>
        <p:spPr>
          <a:xfrm>
            <a:off x="304920" y="173160"/>
            <a:ext cx="8610480" cy="46652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enefits of 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ight be wondering exactly what is gained by compi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ource code into CIL rather than directly to a 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benefit is language integration, that is each .NET-a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iler produces nearly identical CIL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all languages are able to interact within a well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fined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BCF-0043-4B4E-8086-8D70680D39F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A84F-ECC2-4CC3-9AD3-0787091A6D1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228600" y="152280"/>
            <a:ext cx="8763120" cy="84600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Compiling CIL to Platform-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ntity that compiles CIL code into meaningful CP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s is termed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just-in-time (JIT) compiler, (Jitt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we are building a .NET application that i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e deployed to a handheld device (such as a Pocket PC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orresponding Jitter is well equipped to run within a l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mory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given Jitter compiles CIL instructions into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chine code, it will cache the results in memory in a man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ited to the target operating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, if a call is made to a method named PrintDocumen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IL instructions are compiled into platform 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s on the first invocation and retained in memory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ter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the next time PrintDocument() is called, ther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o need to recompile the 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37C-AD10-496B-AE6D-A846D26E5F6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A7B-141E-414A-83F8-DABDBE6FDBF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152280" y="152280"/>
            <a:ext cx="8686800" cy="40863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.NET Typ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used by numerous aspects of the .NET run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vironment, as well as by various development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also used by various object browsing util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bugging tools, and the C# compiler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the backbone of numerous .NET technolog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cluding remoting, late binding, XML we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ervices, and object ser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214200" y="3807000"/>
            <a:ext cx="876312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6d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Serialization is a process through which an object'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ate is transformed into some serial data format, such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ML or binary format, in order to be stored for some late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, the object is "dehydrated" and put away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e need to use it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41E0-E948-4284-8FBD-B963D365076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0D9-A211-4626-8303-92CD93A2C2F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152280" y="173160"/>
            <a:ext cx="8763120" cy="37206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Assembly Mani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assembly also contains metadata that describe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 itself 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anifes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manifest documents, all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ternal assemblies requi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y the current assembly to function correctly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’s version number, copyright information, and 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ke type metadata, it is always the job of the compile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enerate the assembly’s manif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282-4D34-493D-A4D5-DB05180206B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04920" y="152280"/>
            <a:ext cx="8534160" cy="8200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/Win32 API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programming language was used to develop the soft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ed to run on the windows OS in conjunction wit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application programming interface (AP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first obvious problem is that C is a very terse(clea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nguage. C developers included the  manual mem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agement, ugly pointer arithmetic, and ugly syntact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is a structured language, it lacks the benefits provid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object-oriented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you combine the thousands of global function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ata types defined by the raw Win32 API to an alread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midable language, it is little wonder that there are so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y buggy applications floating aroun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905E-B3BE-4EEC-936F-95870FB937D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4"/>
          <p:cNvSpPr/>
          <p:nvPr/>
        </p:nvSpPr>
        <p:spPr>
          <a:xfrm>
            <a:off x="152280" y="173160"/>
            <a:ext cx="8763120" cy="60969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Understanding the Common Typ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given assembly may contain any number of distin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“type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the world of .NET, “type” is simply a generic term us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fer to a member from the set {class, structure, interfa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umeration, delegate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we build solutions using a .NET-aware langua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e will most likely interact with each of these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our assembly may define a single clas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mplements some number of interfa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 one of the interface methods takes an enum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ype as an input parameter and returns a structure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C077-EA92-4428-A885-6F3B97B00EE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F92-E9B1-4746-AEF0-B0807F93EF3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304920" y="173160"/>
            <a:ext cx="8458200" cy="6797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Five types are defined by  the 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Class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ery .NET-aware language supports,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ass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lass may be composed of any number of me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such as properties, methods, and events) and data poi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ield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classes are declared using the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key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class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C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public int Add(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return x + 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C752-E6A8-4B66-BB53-945553AFCC0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C64A-CC0C-4878-8DA3-0D4CC02482B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304920" y="173160"/>
            <a:ext cx="8458200" cy="4597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TS Clas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04920" y="914400"/>
          <a:ext cx="8458200" cy="2971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 Characteris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aning in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s the class “sealed”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aled classes cannot function as a base class to other cla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es the class implement any interfac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CTS allows a class to implement any number of interfa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s the class abstract or concre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bstract classes cannot be directly created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cre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es can be created direct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is the “visibility” of this clas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ach class must be configured with a visibility attribu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51D-49E9-4390-80F3-DE25C377B9E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701-BDB9-4D14-A069-C73A53B85D0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228600" y="141120"/>
            <a:ext cx="8686800" cy="64792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Struc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tructure can be thought of as a lightweigh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ss 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ving value-based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es are best suited for modeling geometric and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thematical data, and are created in C# using the str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A C# structure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w Cen MT"/>
              </a:rPr>
              <a:t>struct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can contain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int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 xPos, y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can contain parameterized constru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fr-FR" sz="1800" spc="-1" strike="noStrike">
                <a:solidFill>
                  <a:srgbClr val="ff0000"/>
                </a:solidFill>
                <a:latin typeface="Tw Cen MT"/>
              </a:rPr>
              <a:t>Point</a:t>
            </a: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 xPos = x; yPos = y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may define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public void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Displa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Console.WriteLine("({0}, {1}", xPos, yPo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1659-0BE2-4A98-92A0-29473491CDE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9AE3-C320-4BD2-A8BD-2FFD98E03DC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04920" y="152280"/>
            <a:ext cx="8458200" cy="4330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Interfac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Interfaces are collection of abstract member definition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which may b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ed by a given class or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interface types are defined using the interf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keyword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A C# interfac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interface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 I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void Dra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EA5-CDAA-45AF-AAE9-195D7BA6CB0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DF19-56F7-482D-8A68-E7FABE24F1A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304920" y="152280"/>
            <a:ext cx="8458200" cy="69364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Enumera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Enumerations are a handy programming construct th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allows you to group name/value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ample, assume in a video-game appl. that allow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layer to select one of 3 character categories (Wizar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ighter, or Thie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ther than keeping track of raw numerical value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present each possibility, you could build a cust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umeration using the enum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enum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 Charact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Wizard = 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Fighter = 2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y default, the storage used to hold each item is a 32-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ger; however, it is possible to alter this storage slot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5DB9-F3DE-4D08-BA1C-91BDB80A42D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9111-0C29-439B-9FB1-A11B23B563B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304920" y="152280"/>
            <a:ext cx="8458200" cy="6829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Delegat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Delegates are the .NET equivalent of a  C-style func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poin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key difference is tha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.NET delegate is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ass th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derives from System.MulticastDelegate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ther tha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mple pointer to a raw memory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delegates are declared using the delegate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This C# delegate type can 'point to'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returning an integer and taking two integers as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elegate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 int BinaryOp(int x, in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legates are useful when you wish to provide a way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ne entity to forward a call to another entity, and prov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foundation for the .NET event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845-10E2-4940-ACE6-5197BBD8C4B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CE07-E17E-4E9C-8861-C40FC1DD17D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304920" y="152280"/>
            <a:ext cx="8458200" cy="2044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Typ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ype member is constrained by the set {constructor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alizer, static constructor, nested type, operator, metho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perty, indexer, field, read only field, constant, event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1"/>
          <p:cNvSpPr/>
          <p:nvPr/>
        </p:nvSpPr>
        <p:spPr>
          <a:xfrm>
            <a:off x="6095880" y="640080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4274-24CD-4C1D-AEFD-94E4D013730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A62-28F1-4F3D-8B55-3235ABF966F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304920" y="76320"/>
            <a:ext cx="8458200" cy="1312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rinsic CTS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defines a well-defined set of core data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data types are expressed in various .NET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571680" y="1552680"/>
            <a:ext cx="7999200" cy="484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C5C-2604-46B8-AF2C-1FAD6A44000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4287-CF8A-4943-97C7-AA7F03BF204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304920" y="217440"/>
            <a:ext cx="8458200" cy="4817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Understanding the Common Languag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S is a set of rules that describe the minimal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lete set of features a given .NET-aware compiler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pport to produce code that can be hosted by the CL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also the code need to be accessed in a unif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ner by all languages that target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ach rule is assigned a simple name and describes h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is rule affects those who build the compilers as well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ose who interact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B36-A0CF-4C40-BEEB-7D1AF5B904D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380880" y="228600"/>
            <a:ext cx="8458200" cy="8581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++/MFC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’s a development over c language. In many ways, C++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an be thought of as an object-oriented 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layer on top of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ough C++ programmers benefit from the O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encapsulation, inheritance, and polymorphism), they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ill at the mercy of the painful aspects of the C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manual memory management, ugly pointer arithmetic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gly syntactical  constru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pite its complexity, many C++ frameworks exist tod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 example, the Microsoft Foundation Classes (MF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vides the developer with a set of existing C++ cla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facilitate the construction of Windows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the helpful assistance offered by the MF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amework , C++ programming remains a difficult and error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ne experi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D2DD-EF04-4954-9813-A5E5CE7C5EB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D3B6-CC55-4F71-B8AD-DAEEB39447F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1F8C-84C9-430B-A461-6893C50E3D7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304920" y="217440"/>
            <a:ext cx="8458200" cy="4025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nsuring CLS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# define a number of programming constructs that are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S-compli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 we can instruct the C# compiler to check the cod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S compliance using a single .NET attrib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Tell the C# compiler to check for CLS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[assembly: System.CLSCompliant(tru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4835-FE76-42B0-B68D-89AF0AFB25C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4B6-51A9-4E8B-B483-4B7A961F25E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304920" y="217440"/>
            <a:ext cx="8458200" cy="947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Understanding the Common Language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14800" cy="63262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9"/>
          <p:cNvSpPr/>
          <p:nvPr/>
        </p:nvSpPr>
        <p:spPr>
          <a:xfrm>
            <a:off x="4648320" y="304920"/>
            <a:ext cx="419076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6d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assembly is referenc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or use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scoree.d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o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utomatically, which in turn loa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required assembly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ntime engine is respon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or a number of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nd foremost, it is the ent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n charge of resolving the lo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of an assembly and finding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requested type within the bin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by reading the contain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eta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R then lays out the type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emory, compiles the associ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IL into platform-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structions, performs 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ecessary security check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n executes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1AF-7C2E-4304-BE46-04F60F3B20B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661-D3FC-4EAF-B400-6C3BF99D900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304920" y="217440"/>
            <a:ext cx="8458200" cy="71506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A Tour of the .NET Name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namespace is a grouping of related types contained in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the System.IO namespace contains file I/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lated types, the System.Data namespace defines bas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atabase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ingle assembly can contain any number of namespa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ach of which can contain any number of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b3d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Hello world in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class My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static 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Console.WriteLine("Hi from C#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43AA-62C2-4D18-906A-F479418209A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89C4-E11F-48CA-9E97-EC886F2CB37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304920" y="217440"/>
            <a:ext cx="8458200" cy="59461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' Hello world in VB 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Import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Public Module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Console.WriteLine("Hi from VB .NET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En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Hello world in Managed Extensions for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#include "stdafx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using namespace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int main(array&lt;System::String ^&gt; ^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Console::WriteLine(L"Hi from managed C++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76C-EF1B-47B2-9F87-A34EB904A71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B2C7-E657-4580-8459-6C66374A3D1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23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82E4-A17F-4CB9-BB0F-CA861436C9C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AE7-A3D9-41CC-A282-E213BF59604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228600" y="128520"/>
            <a:ext cx="8534520" cy="642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B6D0-A03F-48DF-A2BB-0877A69C59C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484-0BAC-442B-9A02-37145BD1D6C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304920" y="217440"/>
            <a:ext cx="8458200" cy="56408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Accessing a Namespace Program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ider the System namespace,  here the runtime eng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nly sees a single entity nam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ystem.Cons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b3d17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Some the namespaces used to build th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;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eneral base class library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rawing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raphical rendering typ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Windows.Forms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UI widget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ata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eneral data-centric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ata.SqlClient;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MS SQL Server data access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562-A27E-4977-9F83-D0889A065A2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02FF-4600-45CD-913F-C82F7D47F40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304920" y="217440"/>
            <a:ext cx="8458200" cy="4483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Explicitly list the namespaces used by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.Draw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class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public void DisplayLog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// Create a 20_20 pixel bit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Bitmap companyLogo = new Bitmap(20, 2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FDC7-FF2C-4B60-ABFC-6DF41A671CC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7E6-06AC-45C6-8D55-207780C17AC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304920" y="217440"/>
            <a:ext cx="8458200" cy="4483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Not listing System.Drawing name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class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public void DisplayLog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// Using fully qualified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System.Drawing.Bitmap companyLogo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new System.Drawing.Bitmap(20, 2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7ED-250A-454D-A970-090F05BA310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C88D-D0C7-499D-BF16-D3232FF87E0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304920" y="217440"/>
            <a:ext cx="8458200" cy="41778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Referencing External Assemb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ong with specifying a namespace, we also need to tell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# compiler the name of the assembly which contain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tual CIL definition for the referenced ty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core .NET namespaces live within mscorlib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le using the System.Drawing.Bitmap type, it 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tained within separate assembly na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ystem.Drawing.d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BB5-AEE5-49E3-9BF6-7FE070693C5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80880" y="119160"/>
            <a:ext cx="8458200" cy="78807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Visual Basic 6.0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the simplicity, many programmers have shifted aw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om the world of C(++)-based frameworks to kinder, gent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nguages such as Visual Basic 6.0 (V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is popular due to its ability to build complex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faces, code libraries (e.g., COM servers), and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ess logic with minimal diffic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hides the complexities of the raw Win32 API from u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 number of integrated code Wizards, intrinsic data typ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asses, and VB-centr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ajor downfall of VB is that it is not a fully object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riented language, but rather "object  awar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6.0 does not support for parameterized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ion. </a:t>
            </a:r>
            <a:br>
              <a:rPr sz="2400"/>
            </a:b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6.0 does not support for multithreaded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3C4B-8ADC-4DCC-BB54-41E42948520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8EB5-B058-4FA1-A6E7-929BC0159C5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6382-8874-49CE-9487-A043A3B3E66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304920" y="217440"/>
            <a:ext cx="8458200" cy="6646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creasing Your Namespace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namespace types are semantical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 you want to design a simple console application,  forg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ll about the System.Windows.Forms  and System.We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ame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you are building a painting application, the datab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amespaces are most likely of little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Intermediate Language Disassembler ut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ildasm.exe) allows us to load any .NET assembly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heck its contents, including the associated manifest, C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de, and type meta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y default, ildasm.exe should be installed un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:\Program Files\Microsoft Visual Studio 8\SDK\v2.0\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D87-A3E3-4353-BF9B-ADF0D56F1A0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592-81AB-49AB-97E7-70502E9B2A0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304920" y="217440"/>
            <a:ext cx="8458200" cy="6554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Deploying the .NE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assemblies can be executed only on a machine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s the .NET Framework inst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you deploy an assembly to a computer that does not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installed, it will fail to 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crosoft provides a setup package named dotnetfx.ex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can be freely shipped and installed along with 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ustom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nstallation program is included with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amework 2.0 SDK, and it is also freely download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om Micro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ce dotnetfx.exe is installed, the machine will now con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.NET base class libraries, .NET runtime (mscoree.dll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additional .NE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C936-23AF-464B-A443-FF837C04CF0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C16F-453C-4D75-B3B2-07C3C34E25A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304920" y="217440"/>
            <a:ext cx="8458200" cy="56257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unning .NET on Non-Microsoft 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be implemented with the help of Common Langu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frastructure (C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 is the ECMA(European Computer Manufactur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ociation) standard that describes the core librari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.NET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crosoft has released an open-source implement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LI (The Shared Source CLI) which can be compile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XP, FreeBSD Unix as well as the Macintosh (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X and high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95F-674B-4421-ADC7-6B752489218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380880" y="228600"/>
            <a:ext cx="8458200" cy="69361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Java/J2EE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Java programming language is completel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riented and has its syntactic roots in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ava provides programmers with a large number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edefined "packages" that contain various clas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face  defin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these types, Java programmers are able to bui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"100% Pure Java“ applications complete with datab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nectivity, messaging support, Web-enabled front en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a rich-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potential problem is that using Java typically me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you must use Java front-to-back during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velop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ure Java is simply not appropriate for many graphically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umerically intensive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1751-0A0F-4A8F-81F9-54CF8D9412C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FB5-3C97-482F-B85F-28D4025316F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80880" y="228600"/>
            <a:ext cx="8458200" cy="2608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you are building a graphics inten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duct (such as a 3D-rendered video game), you will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Java's execution speed is s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etter approach for such programs would be to use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ower- level language such as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CF86-DA63-4BA9-A48D-F39E0FA2F31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CB3-46BF-4D3B-BD0E-22CABA65566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80880" y="228600"/>
            <a:ext cx="8458200" cy="84603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OM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, Microsoft’s (Component Object Model) is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rchitecture that says, "If you build your classe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ordance with the rules of COM, you end up with a blo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reusable binary cod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eauty of a binary COM server is that it can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essed in a language-independent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us, C++ programmers can build COM classes that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e used by VB. Delphi programmers can use COM cla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uilt using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other benefit of COM is its location-transparent n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constructs such as application identifiers (AppIDs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ubs, proxies, and the COM runtime environm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grammers can avoid the need to work with raw socke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PC calls, and other  lowlevel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3A0-C577-44C2-9A37-68592632701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249E-DA9F-46FB-9330-AD10CA67775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80880" y="228600"/>
            <a:ext cx="8458200" cy="5641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though COM is a very dominant object model, i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xtremely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 simplify the development of COM binaries, numer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-aware frameworks have come into exis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the Active Template Library (ATL) prov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other set of C++ -based classes, templates, and macr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o ease the creation of classic COM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other languages also hide a good part of the 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frastructure from view. However, language support al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s not enough to hide the complexity of classic C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0B9-0A62-468E-A2F5-673FF726831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7:29:13Z</dcterms:created>
  <dc:creator>Hemanth</dc:creator>
  <dc:description/>
  <dc:language>en-US</dc:language>
  <cp:lastModifiedBy>mca</cp:lastModifiedBy>
  <dcterms:modified xsi:type="dcterms:W3CDTF">2012-08-10T07:20:15Z</dcterms:modified>
  <cp:revision>309</cp:revision>
  <dc:subject/>
  <dc:title>Topics in Enterprise Architecture - 2</dc:title>
</cp:coreProperties>
</file>